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1586-9F8C-42E6-B976-B3F5B3F00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E03C-3D14-4E66-B26D-C7CF1A970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2F2B-F8AC-4C80-86F6-44FF13F56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84E6-B909-4FE2-A5AA-5798EE87B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F6B13-B4E6-462F-8500-89ECEFDB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1363A-60F4-4574-89C6-80FD0CFB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9C237-B27E-48BC-ACCE-52811A68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44BC0-2396-4C7F-BDCE-DFD5C4A7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11E0A-55C0-499C-A6A2-8C7A57D5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FAF59-EB40-427A-B070-05DA3377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17D63-0CEA-4E22-AF7D-BEF0F24B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ACDC-8155-4E7D-9B7E-98B3D6423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D0973-1DEF-4C08-892E-FFF59851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D3A65-90D0-42A2-A340-91CFAD72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A4515-6D19-4FB4-9985-6149C21E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7182C-5F9A-412A-8EEC-55796702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67ABC-684E-453D-9243-67DA72C0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6809-819A-41ED-9084-3727240F5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BE87-58D5-403B-86B1-4560FF2AD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7F1E-7F14-4D2D-80F3-C447CB6A4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3503-0098-41F9-881C-23D4EA30F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56DA-F9C7-470A-9CDC-30FFD03AB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FC49-3D3C-4554-B564-9C7D893EC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A07A3-BCD3-4FAE-BAEC-5BACF12E6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1032" descr=""/>
          <p:cNvPicPr/>
          <p:nvPr/>
        </p:nvPicPr>
        <p:blipFill>
          <a:blip r:embed="rId2"/>
          <a:stretch/>
        </p:blipFill>
        <p:spPr>
          <a:xfrm>
            <a:off x="8010360" y="6237360"/>
            <a:ext cx="930600" cy="387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33" descr=""/>
          <p:cNvPicPr/>
          <p:nvPr/>
        </p:nvPicPr>
        <p:blipFill>
          <a:blip r:embed="rId3"/>
          <a:stretch/>
        </p:blipFill>
        <p:spPr>
          <a:xfrm>
            <a:off x="0" y="6734160"/>
            <a:ext cx="9144000" cy="1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Object 12"/>
          <p:cNvGraphicFramePr/>
          <p:nvPr/>
        </p:nvGraphicFramePr>
        <p:xfrm>
          <a:off x="0" y="0"/>
          <a:ext cx="9144000" cy="6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65EA6-373A-4649-A953-92C027A7230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27647-65F2-42ED-95F6-D1DCF57258E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C6836-D99F-4817-AE7D-39399C6CB0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extgenscience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rccsecondaryscience.wikispaces.com/Frameworks+for+NGSS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twillard\Desktop\Picture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Closer Look at a Performance Expectation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18600" y="4876560"/>
            <a:ext cx="85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 expectations combine practices, core ideas, and crosscutting concepts into a single statement of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what is to be assess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ar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ructional strategies or objectives for a less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318960" y="1544760"/>
            <a:ext cx="8589960" cy="29509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685800" y="2133720"/>
            <a:ext cx="8077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609480" y="2092320"/>
            <a:ext cx="807732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struct and use models to explain that atoms combine to form new substances of varying complexity in terms of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he number of atoms and repeating subunits. </a:t>
            </a: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[Clarification Statement: Examples of atoms combining can include Hydrogen (H</a:t>
            </a:r>
            <a:r>
              <a:rPr b="1" lang="en-US" sz="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) and Oxygen (O</a:t>
            </a:r>
            <a:r>
              <a:rPr b="1" lang="en-US" sz="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) combining to form hydrogen peroxide (H</a:t>
            </a:r>
            <a:r>
              <a:rPr b="1" lang="en-US" sz="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1" lang="en-US" sz="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) or water(H</a:t>
            </a:r>
            <a:r>
              <a:rPr b="1" lang="en-US" sz="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O). [</a:t>
            </a:r>
            <a:r>
              <a:rPr b="1" i="1" lang="en-US" sz="800" spc="-1" strike="noStrike">
                <a:solidFill>
                  <a:srgbClr val="ff0000"/>
                </a:solidFill>
                <a:latin typeface="Tahoma"/>
              </a:rPr>
              <a:t>Assessment Boundary: Restricted to macroscopic interactions</a:t>
            </a: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.]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229600" y="76320"/>
            <a:ext cx="83808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72960" y="7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Keep in Mind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2960" y="132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p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review is more important t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” many or all of the standards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Box 1"/>
          <p:cNvSpPr/>
          <p:nvPr/>
        </p:nvSpPr>
        <p:spPr>
          <a:xfrm>
            <a:off x="539640" y="3740040"/>
            <a:ext cx="80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teachers, our job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“cover” standa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228600" y="4873680"/>
            <a:ext cx="87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job is to 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u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” (or reveal) those standard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aking a close look at one set of performance expectation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ty and specif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the three dimensions in the performance expec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herence of performance expec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hievability and preparedn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ional implications of the performance expec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3880"/>
            <a:ext cx="82296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ahoma"/>
              </a:rPr>
              <a:t>The Basics </a:t>
            </a:r>
            <a:br>
              <a:rPr sz="6600"/>
            </a:br>
            <a:r>
              <a:rPr b="1" lang="en-US" sz="6600" spc="-1" strike="noStrike">
                <a:solidFill>
                  <a:srgbClr val="333399"/>
                </a:solidFill>
                <a:latin typeface="Tahoma"/>
              </a:rPr>
              <a:t>About NGS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831960" y="4970520"/>
            <a:ext cx="6972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nextgenscience.or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cindy_w\AppData\Local\Microsoft\Windows\Temporary Internet Files\Content.Outlook\3W1D5MX0\nstapress black.jpg"/>
          <p:cNvPicPr/>
          <p:nvPr/>
        </p:nvPicPr>
        <p:blipFill>
          <a:blip r:embed="rId1"/>
          <a:stretch/>
        </p:blipFill>
        <p:spPr>
          <a:xfrm>
            <a:off x="5548320" y="4105440"/>
            <a:ext cx="1576440" cy="510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A Framework for K-12 Science Educ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914400" y="1563840"/>
            <a:ext cx="2819520" cy="340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9" name="Picture 2" descr=""/>
          <p:cNvPicPr/>
          <p:nvPr/>
        </p:nvPicPr>
        <p:blipFill>
          <a:blip r:embed="rId3"/>
          <a:stretch/>
        </p:blipFill>
        <p:spPr>
          <a:xfrm>
            <a:off x="4782960" y="2095560"/>
            <a:ext cx="703440" cy="690480"/>
          </a:xfrm>
          <a:prstGeom prst="rect">
            <a:avLst/>
          </a:prstGeom>
          <a:ln w="0">
            <a:noFill/>
          </a:ln>
        </p:spPr>
      </p:pic>
      <p:sp>
        <p:nvSpPr>
          <p:cNvPr id="90" name="Content Placeholder 2"/>
          <p:cNvSpPr/>
          <p:nvPr/>
        </p:nvSpPr>
        <p:spPr>
          <a:xfrm>
            <a:off x="5486400" y="1981080"/>
            <a:ext cx="26668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iew free PDF form The National Academies Pres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www.nap.ed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4938840" y="3773520"/>
            <a:ext cx="29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ure your own copy fr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5148360" y="46054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ww.nsta.org/stor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631800" y="565164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ttp://rccsecondaryscience.wikispaces.com/Frameworks+for+NG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410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cientific and Engineering Practices</a:t>
            </a:r>
            <a:br>
              <a:rPr sz="36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ts val="3197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ing questions (for science) and defining problems (for enginee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ts val="3197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ing and using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ts val="3197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ning and carrying out investig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ts val="3197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zing and interpret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ts val="3197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mathematics and computational thin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ts val="3197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explanations (for science) and designing solutions (for enginee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ts val="3197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gaging in argument from evi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ts val="3197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ing, evaluating, and communica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457200" y="861840"/>
            <a:ext cx="74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ahoma"/>
              </a:rPr>
              <a:t>These statements define what </a:t>
            </a:r>
            <a:r>
              <a:rPr b="1" i="1" lang="en-US" sz="1800" spc="-1" strike="noStrike" u="sng">
                <a:solidFill>
                  <a:srgbClr val="0070c0"/>
                </a:solidFill>
                <a:uFillTx/>
                <a:latin typeface="Tahoma"/>
              </a:rPr>
              <a:t>students are expected to 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2888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osscutting Concep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1160" y="210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 and effect: Mechanism and expla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, proportion, and qua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and system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ergy and matter: Flows, cycles, and conser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and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 and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768240" y="852480"/>
            <a:ext cx="76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ahoma"/>
              </a:rPr>
              <a:t>These statements transcend all science content and grade levels.  They are </a:t>
            </a:r>
            <a:r>
              <a:rPr b="1" i="1" lang="en-US" sz="1800" spc="-1" strike="noStrike" u="sng">
                <a:solidFill>
                  <a:srgbClr val="0070c0"/>
                </a:solidFill>
                <a:uFillTx/>
                <a:latin typeface="Tahoma"/>
              </a:rPr>
              <a:t>tools</a:t>
            </a:r>
            <a:r>
              <a:rPr b="1" i="1" lang="en-US" sz="1800" spc="-1" strike="noStrike">
                <a:solidFill>
                  <a:srgbClr val="0070c0"/>
                </a:solidFill>
                <a:latin typeface="Tahoma"/>
              </a:rPr>
              <a:t> that </a:t>
            </a:r>
            <a:r>
              <a:rPr b="1" i="1" lang="en-US" sz="1800" spc="-1" strike="noStrike" u="sng">
                <a:solidFill>
                  <a:srgbClr val="0070c0"/>
                </a:solidFill>
                <a:uFillTx/>
                <a:latin typeface="Tahoma"/>
              </a:rPr>
              <a:t>enable students to make sense of  cont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Disciplinary Core Idea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 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th and Space 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gineering, Technology,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pplication of 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8229600" y="76320"/>
            <a:ext cx="838080" cy="10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Disciplinary Core Idea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4745160"/>
        </p:xfrm>
        <a:graphic>
          <a:graphicData uri="http://schemas.openxmlformats.org/drawingml/2006/table">
            <a:tbl>
              <a:tblPr/>
              <a:tblGrid>
                <a:gridCol w="4267440"/>
                <a:gridCol w="4114800"/>
              </a:tblGrid>
              <a:tr h="4208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1120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fe Sc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hysical Sc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3042720">
                <a:tc>
                  <a:txBody>
                    <a:bodyPr lIns="66600" rIns="66600" tIns="0" bIns="0" anchor="t">
                      <a:noAutofit/>
                    </a:bodyPr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S1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om Molecules to Organisms: Structures and Proce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S2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cosystems: Interactions, Energy, and Dynam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S3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redity: Inheritance and Variation of Tr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S4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ological Evolution: Unity and Divers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marL="461880" indent="-4618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1: Matter and Its Intera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461880" indent="-4618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461880" indent="-4618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2: Motion and Stability: Forces and Intera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461880" indent="-4618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461880" indent="-4618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3: Ener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461880" indent="-4618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461880" indent="-4618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4: Waves and Their Applications in Technologies for Information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208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1120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arth &amp; Space Sc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gineering &amp; Techn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4a7b"/>
                    </a:solidFill>
                  </a:tcPr>
                </a:tc>
              </a:tr>
              <a:tr h="1189440">
                <a:tc>
                  <a:txBody>
                    <a:bodyPr lIns="66600" rIns="66600" tIns="0" bIns="0" anchor="t">
                      <a:noAutofit/>
                    </a:bodyPr>
                    <a:p>
                      <a:pPr marL="387360" indent="-387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S1: Earth’s Place in the Unive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87360" indent="-387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87360" indent="-387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S2: Earth’s 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87360" indent="-387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87360" indent="-387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S3: Earth and Human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S1: Engineering De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S2: Links Among Engineering, Technology, Science, and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pic>
        <p:nvPicPr>
          <p:cNvPr id="105" name="Picture 10" descr=""/>
          <p:cNvPicPr/>
          <p:nvPr/>
        </p:nvPicPr>
        <p:blipFill>
          <a:blip r:embed="rId1"/>
          <a:stretch/>
        </p:blipFill>
        <p:spPr>
          <a:xfrm>
            <a:off x="8229600" y="76320"/>
            <a:ext cx="838080" cy="10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Integration of the Three Dimensions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7" name="Group 2"/>
          <p:cNvGrpSpPr/>
          <p:nvPr/>
        </p:nvGrpSpPr>
        <p:grpSpPr>
          <a:xfrm>
            <a:off x="3768840" y="1600200"/>
            <a:ext cx="5057640" cy="4635360"/>
            <a:chOff x="3768840" y="1600200"/>
            <a:chExt cx="5057640" cy="4635360"/>
          </a:xfrm>
        </p:grpSpPr>
        <p:pic>
          <p:nvPicPr>
            <p:cNvPr id="108" name="Picture 3" descr=""/>
            <p:cNvPicPr/>
            <p:nvPr/>
          </p:nvPicPr>
          <p:blipFill>
            <a:blip r:embed="rId1"/>
            <a:stretch/>
          </p:blipFill>
          <p:spPr>
            <a:xfrm rot="5400000">
              <a:off x="3949560" y="2818800"/>
              <a:ext cx="4178160" cy="265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4"/>
            <p:cNvSpPr/>
            <p:nvPr/>
          </p:nvSpPr>
          <p:spPr>
            <a:xfrm>
              <a:off x="7112160" y="1904760"/>
              <a:ext cx="17143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Core Idea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TextBox 5"/>
            <p:cNvSpPr/>
            <p:nvPr/>
          </p:nvSpPr>
          <p:spPr>
            <a:xfrm>
              <a:off x="3768840" y="2209680"/>
              <a:ext cx="157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Practice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TextBox 6"/>
            <p:cNvSpPr/>
            <p:nvPr/>
          </p:nvSpPr>
          <p:spPr>
            <a:xfrm>
              <a:off x="5226120" y="1600200"/>
              <a:ext cx="1800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Crosscutting Concept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2" name="TextBox 13"/>
          <p:cNvSpPr/>
          <p:nvPr/>
        </p:nvSpPr>
        <p:spPr>
          <a:xfrm>
            <a:off x="482760" y="1447920"/>
            <a:ext cx="3429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racti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are the processes of building and using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ore idea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o make sense of the natural and designed world, and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ross cutting concep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hold the discipline toge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2"/>
          <a:stretch/>
        </p:blipFill>
        <p:spPr>
          <a:xfrm>
            <a:off x="8229600" y="76320"/>
            <a:ext cx="838080" cy="10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228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Inside the NGSS Bo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2243160" y="1843200"/>
            <a:ext cx="4157640" cy="4449600"/>
          </a:xfrm>
          <a:prstGeom prst="rect">
            <a:avLst/>
          </a:prstGeom>
          <a:ln w="0">
            <a:noFill/>
          </a:ln>
        </p:spPr>
      </p:pic>
      <p:sp>
        <p:nvSpPr>
          <p:cNvPr id="116" name="Right Brace 5"/>
          <p:cNvSpPr/>
          <p:nvPr/>
        </p:nvSpPr>
        <p:spPr>
          <a:xfrm flipH="1">
            <a:off x="2031840" y="1917720"/>
            <a:ext cx="152640" cy="990720"/>
          </a:xfrm>
          <a:custGeom>
            <a:avLst/>
            <a:gdLst>
              <a:gd name="textAreaLeft" fmla="*/ 360 w 152640"/>
              <a:gd name="textAreaRight" fmla="*/ 55440 w 152640"/>
              <a:gd name="textAreaTop" fmla="*/ 3960 h 990720"/>
              <a:gd name="textAreaBottom" fmla="*/ 9867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212760" y="2244600"/>
            <a:ext cx="18334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What is Assessed</a:t>
            </a:r>
            <a:br>
              <a:rPr sz="18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collection of several performance expectations describing what students should be able to do to master this standar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212760" y="3770280"/>
            <a:ext cx="181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oundation Bo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practices, core disciplinary ideas, and crosscutting concepts from the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Framework for K-12 Science Educatio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at were used to form the performance expect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ight Brace 8"/>
          <p:cNvSpPr/>
          <p:nvPr/>
        </p:nvSpPr>
        <p:spPr>
          <a:xfrm flipH="1">
            <a:off x="2031840" y="2978280"/>
            <a:ext cx="152640" cy="1976400"/>
          </a:xfrm>
          <a:custGeom>
            <a:avLst/>
            <a:gdLst>
              <a:gd name="textAreaLeft" fmla="*/ 360 w 152640"/>
              <a:gd name="textAreaRight" fmla="*/ 55440 w 152640"/>
              <a:gd name="textAreaTop" fmla="*/ 3960 h 1976400"/>
              <a:gd name="textAreaBottom" fmla="*/ 1972440 h 197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0"/>
                  <a:pt x="10800" y="139"/>
                </a:cubicBezTo>
                <a:lnTo>
                  <a:pt x="10800" y="10661"/>
                </a:lnTo>
                <a:cubicBezTo>
                  <a:pt x="10800" y="10731"/>
                  <a:pt x="16200" y="10800"/>
                  <a:pt x="21600" y="10800"/>
                </a:cubicBezTo>
                <a:cubicBezTo>
                  <a:pt x="16200" y="10800"/>
                  <a:pt x="10800" y="10870"/>
                  <a:pt x="10800" y="10939"/>
                </a:cubicBezTo>
                <a:lnTo>
                  <a:pt x="10800" y="21461"/>
                </a:lnTo>
                <a:cubicBezTo>
                  <a:pt x="10800" y="2153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212760" y="5445000"/>
            <a:ext cx="18334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onnection Bo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ther standards in the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Next Generation Science Standards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r in the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Common Core State Standards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that are relate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to this standard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ight Brace 10"/>
          <p:cNvSpPr/>
          <p:nvPr/>
        </p:nvSpPr>
        <p:spPr>
          <a:xfrm flipH="1">
            <a:off x="2028960" y="5014800"/>
            <a:ext cx="155520" cy="1239840"/>
          </a:xfrm>
          <a:custGeom>
            <a:avLst/>
            <a:gdLst>
              <a:gd name="textAreaLeft" fmla="*/ 0 w 155520"/>
              <a:gd name="textAreaRight" fmla="*/ 56160 w 155520"/>
              <a:gd name="textAreaTop" fmla="*/ 3960 h 1239840"/>
              <a:gd name="textAreaBottom" fmla="*/ 1235880 h 123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6"/>
                </a:cubicBezTo>
                <a:lnTo>
                  <a:pt x="10800" y="10574"/>
                </a:lnTo>
                <a:cubicBezTo>
                  <a:pt x="10800" y="10687"/>
                  <a:pt x="16200" y="10800"/>
                  <a:pt x="21600" y="10800"/>
                </a:cubicBezTo>
                <a:cubicBezTo>
                  <a:pt x="16200" y="10800"/>
                  <a:pt x="10800" y="10913"/>
                  <a:pt x="10800" y="11026"/>
                </a:cubicBezTo>
                <a:lnTo>
                  <a:pt x="10800" y="21374"/>
                </a:lnTo>
                <a:cubicBezTo>
                  <a:pt x="10800" y="2148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ounded Rectangle 11"/>
          <p:cNvSpPr/>
          <p:nvPr/>
        </p:nvSpPr>
        <p:spPr>
          <a:xfrm flipV="1">
            <a:off x="2270160" y="2010240"/>
            <a:ext cx="4038480" cy="174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traight Connector 12"/>
          <p:cNvSpPr/>
          <p:nvPr/>
        </p:nvSpPr>
        <p:spPr>
          <a:xfrm flipV="1">
            <a:off x="5657760" y="944280"/>
            <a:ext cx="112392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6772320" y="738360"/>
            <a:ext cx="228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Performance Expectations</a:t>
            </a: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statement that combines practices, core  ideas, and crosscutting concepts together to describe how students can show what they have learned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ounded Rectangle 14"/>
          <p:cNvSpPr/>
          <p:nvPr/>
        </p:nvSpPr>
        <p:spPr>
          <a:xfrm flipV="1">
            <a:off x="2270160" y="3001320"/>
            <a:ext cx="1343160" cy="1981080"/>
          </a:xfrm>
          <a:custGeom>
            <a:avLst/>
            <a:gdLst>
              <a:gd name="textAreaLeft" fmla="*/ 0 w 1343160"/>
              <a:gd name="textAreaRight" fmla="*/ 1343520 w 1343160"/>
              <a:gd name="textAreaTop" fmla="*/ -360 h 1981080"/>
              <a:gd name="textAreaBottom" fmla="*/ 1981080 h 1981080"/>
            </a:gdLst>
            <a:ahLst/>
            <a:rect l="textAreaLeft" t="textAreaTop" r="textAreaRight" b="textAreaBottom"/>
            <a:pathLst>
              <a:path w="21600" h="31856">
                <a:moveTo>
                  <a:pt x="0" y="0"/>
                </a:moveTo>
                <a:arcTo wR="0" hR="0" stAng="16200000" swAng="-5400000"/>
                <a:lnTo>
                  <a:pt x="0" y="31856"/>
                </a:lnTo>
                <a:arcTo wR="0" hR="0" stAng="10800000" swAng="-5400000"/>
                <a:lnTo>
                  <a:pt x="21600" y="3185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3201840" y="738360"/>
            <a:ext cx="30290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Title and Code</a:t>
            </a:r>
            <a:br>
              <a:rPr sz="14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wo sets of performance expectations at different grade levels may use the same name if they focus on the same topic. The code, however, is a unique identifier for each standard based on the grade level, content area, and topic of the standard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ounded Rectangle 16"/>
          <p:cNvSpPr/>
          <p:nvPr/>
        </p:nvSpPr>
        <p:spPr>
          <a:xfrm flipV="1">
            <a:off x="2270160" y="1846440"/>
            <a:ext cx="1616040" cy="101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ounded Rectangle 17"/>
          <p:cNvSpPr/>
          <p:nvPr/>
        </p:nvSpPr>
        <p:spPr>
          <a:xfrm flipV="1">
            <a:off x="3657600" y="3001320"/>
            <a:ext cx="1397160" cy="1981080"/>
          </a:xfrm>
          <a:custGeom>
            <a:avLst/>
            <a:gdLst>
              <a:gd name="textAreaLeft" fmla="*/ 0 w 1397160"/>
              <a:gd name="textAreaRight" fmla="*/ 1397520 w 1397160"/>
              <a:gd name="textAreaTop" fmla="*/ -360 h 1981080"/>
              <a:gd name="textAreaBottom" fmla="*/ 1981080 h 1981080"/>
            </a:gdLst>
            <a:ahLst/>
            <a:rect l="textAreaLeft" t="textAreaTop" r="textAreaRight" b="textAreaBottom"/>
            <a:pathLst>
              <a:path w="21600" h="30625">
                <a:moveTo>
                  <a:pt x="0" y="0"/>
                </a:moveTo>
                <a:arcTo wR="0" hR="0" stAng="16200000" swAng="-5400000"/>
                <a:lnTo>
                  <a:pt x="0" y="30625"/>
                </a:lnTo>
                <a:arcTo wR="0" hR="0" stAng="10800000" swAng="-5400000"/>
                <a:lnTo>
                  <a:pt x="21600" y="3062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ounded Rectangle 18"/>
          <p:cNvSpPr/>
          <p:nvPr/>
        </p:nvSpPr>
        <p:spPr>
          <a:xfrm flipV="1">
            <a:off x="5099040" y="3001320"/>
            <a:ext cx="1273320" cy="1981080"/>
          </a:xfrm>
          <a:custGeom>
            <a:avLst/>
            <a:gdLst>
              <a:gd name="textAreaLeft" fmla="*/ 0 w 1273320"/>
              <a:gd name="textAreaRight" fmla="*/ 1273680 w 1273320"/>
              <a:gd name="textAreaTop" fmla="*/ -360 h 1981080"/>
              <a:gd name="textAreaBottom" fmla="*/ 1981080 h 1981080"/>
            </a:gdLst>
            <a:ahLst/>
            <a:rect l="textAreaLeft" t="textAreaTop" r="textAreaRight" b="textAreaBottom"/>
            <a:pathLst>
              <a:path w="21600" h="33603">
                <a:moveTo>
                  <a:pt x="0" y="0"/>
                </a:moveTo>
                <a:arcTo wR="0" hR="0" stAng="16200000" swAng="-5400000"/>
                <a:lnTo>
                  <a:pt x="0" y="33603"/>
                </a:lnTo>
                <a:arcTo wR="0" hR="0" stAng="10800000" swAng="-5400000"/>
                <a:lnTo>
                  <a:pt x="21600" y="3360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Straight Connector 19"/>
          <p:cNvSpPr/>
          <p:nvPr/>
        </p:nvSpPr>
        <p:spPr>
          <a:xfrm>
            <a:off x="3613320" y="3992400"/>
            <a:ext cx="3168360" cy="7956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traight Connector 20"/>
          <p:cNvSpPr/>
          <p:nvPr/>
        </p:nvSpPr>
        <p:spPr>
          <a:xfrm>
            <a:off x="5054760" y="4195800"/>
            <a:ext cx="1726920" cy="5587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traight Connector 21"/>
          <p:cNvSpPr/>
          <p:nvPr/>
        </p:nvSpPr>
        <p:spPr>
          <a:xfrm>
            <a:off x="6372360" y="4954680"/>
            <a:ext cx="409320" cy="573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Box 20"/>
          <p:cNvSpPr/>
          <p:nvPr/>
        </p:nvSpPr>
        <p:spPr>
          <a:xfrm>
            <a:off x="6781680" y="391644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Calibri"/>
              </a:rPr>
              <a:t>Scientific &amp; Engineering Practices</a:t>
            </a: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ctivities that scientists and engineers engage in to either understand the world or solve a proble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Box 21"/>
          <p:cNvSpPr/>
          <p:nvPr/>
        </p:nvSpPr>
        <p:spPr>
          <a:xfrm>
            <a:off x="6781680" y="4603680"/>
            <a:ext cx="228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Disciplinary Core Ideas</a:t>
            </a: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cepts in science and engineering that have broad importance within and across disciplines as well as relevance in people’s lives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Box 22"/>
          <p:cNvSpPr/>
          <p:nvPr/>
        </p:nvSpPr>
        <p:spPr>
          <a:xfrm>
            <a:off x="6772320" y="54784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alibri"/>
              </a:rPr>
              <a:t>Crosscutting Concepts</a:t>
            </a: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deas, such as 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Patterns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Cause and Effect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, which are not specific to any one discipline but cut across them all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6" name="Elbow Connector 25"/>
          <p:cNvCxnSpPr/>
          <p:nvPr/>
        </p:nvCxnSpPr>
        <p:spPr>
          <a:xfrm rot="5400000">
            <a:off x="2675880" y="1269720"/>
            <a:ext cx="978840" cy="175680"/>
          </a:xfrm>
          <a:prstGeom prst="bentConnector3">
            <a:avLst>
              <a:gd name="adj1" fmla="val -183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137" name="Oval 26"/>
          <p:cNvSpPr/>
          <p:nvPr/>
        </p:nvSpPr>
        <p:spPr>
          <a:xfrm>
            <a:off x="5665680" y="3537000"/>
            <a:ext cx="79560" cy="71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Straight Connector 27"/>
          <p:cNvSpPr/>
          <p:nvPr/>
        </p:nvSpPr>
        <p:spPr>
          <a:xfrm flipV="1">
            <a:off x="3186000" y="3209760"/>
            <a:ext cx="3629160" cy="362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Straight Connector 28"/>
          <p:cNvSpPr/>
          <p:nvPr/>
        </p:nvSpPr>
        <p:spPr>
          <a:xfrm flipV="1">
            <a:off x="5734080" y="3209400"/>
            <a:ext cx="1071360" cy="336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Straight Connector 29"/>
          <p:cNvSpPr/>
          <p:nvPr/>
        </p:nvSpPr>
        <p:spPr>
          <a:xfrm flipV="1">
            <a:off x="4305240" y="3209760"/>
            <a:ext cx="2509920" cy="177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Box 30"/>
          <p:cNvSpPr/>
          <p:nvPr/>
        </p:nvSpPr>
        <p:spPr>
          <a:xfrm>
            <a:off x="6772320" y="3024360"/>
            <a:ext cx="228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Lowercase Letters</a:t>
            </a: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owercase letters at the end of practices, core ideas, and crosscutting Concepts designate which Performance expectation incorporates them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50"/>
          <p:cNvSpPr/>
          <p:nvPr/>
        </p:nvSpPr>
        <p:spPr>
          <a:xfrm>
            <a:off x="6781680" y="23130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Assessment Boundary</a:t>
            </a: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statement that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provides guidance about the scope of the performance expectation at a particular grade level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Box 51"/>
          <p:cNvSpPr/>
          <p:nvPr/>
        </p:nvSpPr>
        <p:spPr>
          <a:xfrm>
            <a:off x="6772320" y="160164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Clarification Statement</a:t>
            </a: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statement that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supplies examples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r additional clarification to the performance expectation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ounded Rectangle 34"/>
          <p:cNvSpPr/>
          <p:nvPr/>
        </p:nvSpPr>
        <p:spPr>
          <a:xfrm flipV="1">
            <a:off x="3527280" y="2295000"/>
            <a:ext cx="2781360" cy="100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ounded Rectangle 35"/>
          <p:cNvSpPr/>
          <p:nvPr/>
        </p:nvSpPr>
        <p:spPr>
          <a:xfrm flipV="1">
            <a:off x="4865760" y="2743920"/>
            <a:ext cx="1442880" cy="87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Straight Connector 36"/>
          <p:cNvSpPr/>
          <p:nvPr/>
        </p:nvSpPr>
        <p:spPr>
          <a:xfrm flipV="1">
            <a:off x="6237360" y="1782720"/>
            <a:ext cx="568080" cy="512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Straight Connector 37"/>
          <p:cNvSpPr/>
          <p:nvPr/>
        </p:nvSpPr>
        <p:spPr>
          <a:xfrm flipV="1">
            <a:off x="6245280" y="2468520"/>
            <a:ext cx="536400" cy="263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Oval 38"/>
          <p:cNvSpPr/>
          <p:nvPr/>
        </p:nvSpPr>
        <p:spPr>
          <a:xfrm>
            <a:off x="4221000" y="3352680"/>
            <a:ext cx="79560" cy="73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Oval 39"/>
          <p:cNvSpPr/>
          <p:nvPr/>
        </p:nvSpPr>
        <p:spPr>
          <a:xfrm>
            <a:off x="3105000" y="3538440"/>
            <a:ext cx="79560" cy="73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20:21:29Z</dcterms:created>
  <dc:creator>Katie Van Horne</dc:creator>
  <dc:description/>
  <dc:language>en-US</dc:language>
  <cp:lastModifiedBy>McGrath Edward J</cp:lastModifiedBy>
  <dcterms:modified xsi:type="dcterms:W3CDTF">2013-06-19T14:02:41Z</dcterms:modified>
  <cp:revision>71</cp:revision>
  <dc:subject/>
  <dc:title>NSTA Webinar on Obtaining, Evaluating, and Communicating Information</dc:title>
</cp:coreProperties>
</file>